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C45-E13E-4874-8CD4-5A6FFC6C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0BE-9EFC-4F55-8099-43F84785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23F-4F33-41C6-BC4C-DC0BD597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DD1-438D-4B14-B534-66C03965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E3FE-103A-4117-AB24-F80BD81F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10A6-D69E-4A95-B36A-3E905D31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4F7E-C938-443E-91C4-03AFB979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1364-C4E7-4099-AA0A-819FE881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FFFD-1AFF-49B6-B312-B65CB51B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07D1-B8C4-4B66-98AE-5F208204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F82D-8F02-4F3E-B3D5-6D2911A1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E00-C7CC-4F09-9C30-EDFCC1B9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6529-35AB-45A0-AEEC-951173B3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0D1F-B12C-4DF4-BCFB-38058426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29F1-B7AA-4CDE-AF9A-68FDE944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6DEF-B04C-4410-B87E-41DDABA5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1EB7-E9D8-4298-B0F5-6B551D06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44B-FE86-4127-9CAA-6E38A8E9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F8C-45CF-42CD-94BA-12CC3704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2A3-15D1-47D6-997C-DEA69FFE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512-94E4-46A1-85D2-6577670C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0DD-AA32-4601-85D3-C879188A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2F95-41D0-48C1-8C5E-21BB30A9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E93-2921-488E-8980-97793493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1833-3644-40C7-83F5-69170940C86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962F-313D-4D03-A3F0-F816A8C700A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y 2005 Updat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ming so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erkeleyDB backen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llen Day’s template system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nit tes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VS Issue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emplate version on CVS HEA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asic functionality work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any advanced features not work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ug fixes on 1.62-bugfixes branch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commended for end user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ill become 1.63 RS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431360" y="1828800"/>
            <a:ext cx="288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mon Ilyuschenk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alitha Krishn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70640" y="411480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UC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Allen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1880" y="182880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905" t="28856" r="2830" b="13655"/>
          <a:stretch/>
        </p:blipFill>
        <p:spPr>
          <a:xfrm>
            <a:off x="838080" y="1824120"/>
            <a:ext cx="7751880" cy="3738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Recent Improvem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rder of sections reorganiz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roup tracks by categ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xpand/contract categori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lace plugins in menuba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ternal chang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ibraries refactored; easier to manage plugins, upload tracks, DAS tracks, improved Chado interface, GFF3 load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llapsible Sectio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410" t="14877" r="3433" b="5502"/>
          <a:stretch/>
        </p:blipFill>
        <p:spPr>
          <a:xfrm>
            <a:off x="228600" y="1609560"/>
            <a:ext cx="8915400" cy="5248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llapsible Sectio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410" t="14877" r="3433" b="5502"/>
          <a:stretch/>
        </p:blipFill>
        <p:spPr>
          <a:xfrm>
            <a:off x="304920" y="1654200"/>
            <a:ext cx="8839080" cy="5203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roupable Track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228600" y="1523880"/>
            <a:ext cx="8763120" cy="5160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roupable Track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228600" y="1523880"/>
            <a:ext cx="8763120" cy="516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Menuable Plugi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304920" y="1600200"/>
            <a:ext cx="8839080" cy="5207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666880" y="2057400"/>
            <a:ext cx="2286000" cy="533520"/>
          </a:xfrm>
          <a:prstGeom prst="ellipse">
            <a:avLst/>
          </a:prstGeom>
          <a:noFill/>
          <a:ln w="12600">
            <a:solidFill>
              <a:srgbClr val="d57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More Glyph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557" t="14814" r="3644" b="3701"/>
          <a:stretch/>
        </p:blipFill>
        <p:spPr>
          <a:xfrm>
            <a:off x="533520" y="1523880"/>
            <a:ext cx="8381880" cy="5194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 </cp:lastModifiedBy>
  <cp:lastPrinted>1998-10-28T21:29:29Z</cp:lastPrinted>
  <dcterms:modified xsi:type="dcterms:W3CDTF">2005-05-16T18:46:05Z</dcterms:modified>
  <cp:revision>560</cp:revision>
  <dc:subject/>
  <dc:title>Training</dc:title>
</cp:coreProperties>
</file>